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D412-67C8-4971-A887-5441F9CE6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5252-8392-42BF-9ADE-969641A9D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1784-F05E-40A0-AE6C-333F83624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19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1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17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19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1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AD1A-E4C6-4754-AD12-AF1AC83EA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41360" y="698040"/>
            <a:ext cx="69343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9849-DD2E-49C0-B59B-1BB3FA00F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19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21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17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19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21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407E-0FB0-459A-BA56-F3EDDE5C5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B150-34F2-4D1D-A440-4A4EDE628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17EB-C92B-4CB6-876B-A5C29D9E3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41360" y="698040"/>
            <a:ext cx="69343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6D8A-1F4D-4972-9D78-8BD74B8F1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020E-8D91-4F60-A32F-95E936F31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CCFF-7930-437F-B79E-0AE8EEB4D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D5BC-0558-4B6C-83EE-D7C9E92D0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828800" indent="-260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233440" indent="-2124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752400" y="0"/>
            <a:ext cx="0" cy="685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70640" y="6477120"/>
            <a:ext cx="6253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B7C4-9A1F-4C39-A2A5-99645358BD82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955800" y="158760"/>
            <a:ext cx="149040" cy="6540480"/>
            <a:chOff x="955800" y="158760"/>
            <a:chExt cx="149040" cy="6540480"/>
          </a:xfrm>
        </p:grpSpPr>
        <p:sp>
          <p:nvSpPr>
            <p:cNvPr id="5" name="Freeform 7"/>
            <p:cNvSpPr/>
            <p:nvPr/>
          </p:nvSpPr>
          <p:spPr>
            <a:xfrm>
              <a:off x="955800" y="158760"/>
              <a:ext cx="149040" cy="6540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540480"/>
                <a:gd name="textAreaBottom" fmla="*/ 6540840 h 6540480"/>
              </a:gdLst>
              <a:ahLst/>
              <a:rect l="textAreaLeft" t="textAreaTop" r="textAreaRight" b="textAreaBottom"/>
              <a:pathLst>
                <a:path w="94" h="4120">
                  <a:moveTo>
                    <a:pt x="94" y="0"/>
                  </a:moveTo>
                  <a:lnTo>
                    <a:pt x="0" y="0"/>
                  </a:lnTo>
                  <a:lnTo>
                    <a:pt x="0" y="41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rot="5400000">
              <a:off x="979560" y="6582960"/>
              <a:ext cx="96840" cy="132840"/>
            </a:xfrm>
            <a:prstGeom prst="triangle">
              <a:avLst>
                <a:gd name="adj" fmla="val 4657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5" descr="Picture6"/>
          <p:cNvPicPr/>
          <p:nvPr/>
        </p:nvPicPr>
        <p:blipFill>
          <a:blip r:embed="rId2"/>
          <a:stretch/>
        </p:blipFill>
        <p:spPr>
          <a:xfrm>
            <a:off x="0" y="0"/>
            <a:ext cx="878040" cy="6946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7" descr=""/>
          <p:cNvPicPr/>
          <p:nvPr/>
        </p:nvPicPr>
        <p:blipFill>
          <a:blip r:embed="rId3"/>
          <a:stretch/>
        </p:blipFill>
        <p:spPr>
          <a:xfrm>
            <a:off x="8077320" y="133200"/>
            <a:ext cx="9684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c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6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icture5"/>
          <p:cNvPicPr/>
          <p:nvPr/>
        </p:nvPicPr>
        <p:blipFill>
          <a:blip r:embed="rId2"/>
          <a:stretch/>
        </p:blipFill>
        <p:spPr>
          <a:xfrm>
            <a:off x="0" y="3048120"/>
            <a:ext cx="919800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3"/>
          <a:stretch/>
        </p:blipFill>
        <p:spPr>
          <a:xfrm>
            <a:off x="25560" y="2073240"/>
            <a:ext cx="1269720" cy="898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828800" indent="-260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233440" indent="-2124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82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6382e"/>
                </a:solidFill>
                <a:latin typeface="Arial"/>
              </a:rPr>
              <a:t>Microsoft Office 2007- Illustrated Introductory, Premium Video Edi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120" y="190512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etting Started with Excel 2007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5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"/>
          <p:cNvPicPr/>
          <p:nvPr/>
        </p:nvPicPr>
        <p:blipFill>
          <a:blip r:embed="rId1"/>
          <a:stretch/>
        </p:blipFill>
        <p:spPr>
          <a:xfrm>
            <a:off x="3287880" y="1676520"/>
            <a:ext cx="5475240" cy="4103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7640" y="495000"/>
            <a:ext cx="693396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ouring the Excel 2007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indow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066680" y="1523880"/>
            <a:ext cx="1868760" cy="914400"/>
          </a:xfrm>
          <a:prstGeom prst="borderCallout1">
            <a:avLst>
              <a:gd name="adj1" fmla="val 18750"/>
              <a:gd name="adj2" fmla="val -8333"/>
              <a:gd name="adj3" fmla="val 98092"/>
              <a:gd name="adj4" fmla="val 131518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box and current cel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192320" y="3809880"/>
            <a:ext cx="1243080" cy="633600"/>
          </a:xfrm>
          <a:prstGeom prst="borderCallout1">
            <a:avLst>
              <a:gd name="adj1" fmla="val 18750"/>
              <a:gd name="adj2" fmla="val -8333"/>
              <a:gd name="adj3" fmla="val -197745"/>
              <a:gd name="adj4" fmla="val 301148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1447920" y="6019920"/>
            <a:ext cx="1360440" cy="377640"/>
          </a:xfrm>
          <a:prstGeom prst="borderCallout1">
            <a:avLst>
              <a:gd name="adj1" fmla="val 18750"/>
              <a:gd name="adj2" fmla="val -8333"/>
              <a:gd name="adj3" fmla="val -99157"/>
              <a:gd name="adj4" fmla="val 186699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et 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1219320" y="2971800"/>
            <a:ext cx="1274760" cy="633240"/>
          </a:xfrm>
          <a:prstGeom prst="borderCallout1">
            <a:avLst>
              <a:gd name="adj1" fmla="val 18750"/>
              <a:gd name="adj2" fmla="val -8333"/>
              <a:gd name="adj3" fmla="val -27569"/>
              <a:gd name="adj4" fmla="val 18555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7304040" y="6172200"/>
            <a:ext cx="1360440" cy="378000"/>
          </a:xfrm>
          <a:prstGeom prst="borderCallout1">
            <a:avLst>
              <a:gd name="adj1" fmla="val 18750"/>
              <a:gd name="adj2" fmla="val -8333"/>
              <a:gd name="adj3" fmla="val -113023"/>
              <a:gd name="adj4" fmla="val -77129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4876920" y="1219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pen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Formul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rmula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re equations in a workshe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xcel formulas allow users at every level of mathematical expertise to make calculations with accurac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Formul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en creating calculations in Excel, it is important to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now where the formulas should b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now exactly what cells and arithmetic operations are need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e formulas with ca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 cell references rather than val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termine what calculations will be need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Formul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rcRect l="0" t="0" r="28944" b="3052"/>
          <a:stretch/>
        </p:blipFill>
        <p:spPr>
          <a:xfrm>
            <a:off x="3429000" y="213372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7"/>
          <p:cNvSpPr/>
          <p:nvPr/>
        </p:nvSpPr>
        <p:spPr>
          <a:xfrm>
            <a:off x="1295280" y="2286000"/>
            <a:ext cx="1752840" cy="914400"/>
          </a:xfrm>
          <a:prstGeom prst="borderCallout1">
            <a:avLst>
              <a:gd name="adj1" fmla="val 18750"/>
              <a:gd name="adj2" fmla="val -8333"/>
              <a:gd name="adj3" fmla="val 98092"/>
              <a:gd name="adj4" fmla="val 224638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appears in formula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1295280" y="4572000"/>
            <a:ext cx="1676520" cy="685800"/>
          </a:xfrm>
          <a:prstGeom prst="borderCallout1">
            <a:avLst>
              <a:gd name="adj1" fmla="val 18750"/>
              <a:gd name="adj2" fmla="val -8333"/>
              <a:gd name="adj3" fmla="val -61574"/>
              <a:gd name="adj4" fmla="val 27632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of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352680" y="1523880"/>
            <a:ext cx="29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iewing a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Formula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811160" y="2684520"/>
            <a:ext cx="6610680" cy="2490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752480" y="20574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cel arithmetic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ntering Labels and Values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Using AutoSu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3994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Label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contain text and numerical information not used in calcula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s help you identify data in worksheet rows and colum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You should enter all the labels first before entering other cont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Value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re numbers, formulas, and functions that can be used in calcula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ntering Labels and Values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Using AutoSu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3994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is a built-in formul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 function includes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, the information necessary for the calcul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ing the AutoSum button sums the adjacent range above or to the left, though you can adjust the ran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Fill button fills cells based on the first number sequence in the ran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"/>
          <p:cNvPicPr/>
          <p:nvPr/>
        </p:nvPicPr>
        <p:blipFill>
          <a:blip r:embed="rId1"/>
          <a:srcRect l="0" t="0" r="11828" b="0"/>
          <a:stretch/>
        </p:blipFill>
        <p:spPr>
          <a:xfrm>
            <a:off x="1447920" y="2514600"/>
            <a:ext cx="6248160" cy="3664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ntering Labels and Values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Using AutoSu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10080" y="4800600"/>
            <a:ext cx="1600200" cy="990720"/>
          </a:xfrm>
          <a:prstGeom prst="borderCallout1">
            <a:avLst>
              <a:gd name="adj1" fmla="val 18750"/>
              <a:gd name="adj2" fmla="val -8333"/>
              <a:gd name="adj3" fmla="val 11055"/>
              <a:gd name="adj4" fmla="val -151388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included i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380880" y="2895480"/>
            <a:ext cx="1127160" cy="457200"/>
          </a:xfrm>
          <a:prstGeom prst="borderCallout1">
            <a:avLst>
              <a:gd name="adj1" fmla="val 18750"/>
              <a:gd name="adj2" fmla="val -8333"/>
              <a:gd name="adj3" fmla="val 134375"/>
              <a:gd name="adj4" fmla="val 24633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7696080" y="2133720"/>
            <a:ext cx="1219320" cy="685800"/>
          </a:xfrm>
          <a:prstGeom prst="borderCallout1">
            <a:avLst>
              <a:gd name="adj1" fmla="val 18750"/>
              <a:gd name="adj2" fmla="val -8333"/>
              <a:gd name="adj3" fmla="val 106944"/>
              <a:gd name="adj4" fmla="val -2291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Sum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295280" y="17524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eating a formula using the AutoSum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7848720" y="3276720"/>
            <a:ext cx="1218960" cy="457200"/>
          </a:xfrm>
          <a:prstGeom prst="borderCallout1">
            <a:avLst>
              <a:gd name="adj1" fmla="val 18750"/>
              <a:gd name="adj2" fmla="val -8333"/>
              <a:gd name="adj3" fmla="val -22916"/>
              <a:gd name="adj4" fmla="val -2916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diting Cell Entri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change, or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edi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the contents of an active cell at any t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edit the contents of the active cell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uble-click the cell, 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in the formula bar, 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Just start typ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xcel switches to Edit mode when you are making cell e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diting Cell Entri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2824200" y="2081160"/>
            <a:ext cx="5557680" cy="41673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6"/>
          <p:cNvSpPr/>
          <p:nvPr/>
        </p:nvSpPr>
        <p:spPr>
          <a:xfrm>
            <a:off x="1295280" y="2514600"/>
            <a:ext cx="1143000" cy="685800"/>
          </a:xfrm>
          <a:prstGeom prst="borderCallout1">
            <a:avLst>
              <a:gd name="adj1" fmla="val 18750"/>
              <a:gd name="adj2" fmla="val -8333"/>
              <a:gd name="adj3" fmla="val 163587"/>
              <a:gd name="adj4" fmla="val 150763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143000" y="3962520"/>
            <a:ext cx="1127160" cy="761760"/>
          </a:xfrm>
          <a:prstGeom prst="borderCallout1">
            <a:avLst>
              <a:gd name="adj1" fmla="val 18750"/>
              <a:gd name="adj2" fmla="val -8333"/>
              <a:gd name="adj3" fmla="val -131666"/>
              <a:gd name="adj4" fmla="val 300282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1143000" y="5562720"/>
            <a:ext cx="1127160" cy="761760"/>
          </a:xfrm>
          <a:prstGeom prst="borderCallout1">
            <a:avLst>
              <a:gd name="adj1" fmla="val 18750"/>
              <a:gd name="adj2" fmla="val -8333"/>
              <a:gd name="adj3" fmla="val 74791"/>
              <a:gd name="adj4" fmla="val 14563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66688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orksheet in Ed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nderstand spreadsheet softwa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ur the Excel 2007 windo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nderstand formula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er labels and values and use AutoSu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diting Cell Entri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52480" y="21337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mon pointers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1"/>
          <p:cNvGraphicFramePr/>
          <p:nvPr/>
        </p:nvGraphicFramePr>
        <p:xfrm>
          <a:off x="1816200" y="2895480"/>
          <a:ext cx="64897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2895480"/>
                    <a:ext cx="64897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ntering and Editing a Simple Formul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mulas start with the equal sign (=), also called 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rmula prefi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alculation operator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in formulas indicate what type of calculation you want to perfor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rithmetic operator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erform mathematical calculations such as adding and subtract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ntering and Editing a Simple Formul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omparison operator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compare values for the purpose of true/false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ext concatenation operator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join strings of text in different cel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Reference operator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enable you to use ranges in calcula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witching Worksheet View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change your view of the worksheet window by using either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iew tab on the Ribb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iew buttons on the status b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Normal view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shows the worksheet without including headers and footers or tools like rulers and a page number indica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witching Worksheet View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Page Layout View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rovides a more accurate view of how a worksheet will look when print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896040" indent="-28152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 shows page margins, headers and footers, rulers, et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Page Break Preview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displays a reduced view of each page of the worksheet, along with page break indica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witching Worksheet View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4382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ge Layout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2571840" y="2362320"/>
            <a:ext cx="5091120" cy="381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/>
          <p:cNvSpPr/>
          <p:nvPr/>
        </p:nvSpPr>
        <p:spPr>
          <a:xfrm>
            <a:off x="685800" y="2514600"/>
            <a:ext cx="1660680" cy="685800"/>
          </a:xfrm>
          <a:prstGeom prst="borderCallout1">
            <a:avLst>
              <a:gd name="adj1" fmla="val 18750"/>
              <a:gd name="adj2" fmla="val -8333"/>
              <a:gd name="adj3" fmla="val 71990"/>
              <a:gd name="adj4" fmla="val 12504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book View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762120" y="3581280"/>
            <a:ext cx="1508040" cy="685800"/>
          </a:xfrm>
          <a:prstGeom prst="borderCallout1">
            <a:avLst>
              <a:gd name="adj1" fmla="val 18750"/>
              <a:gd name="adj2" fmla="val -8333"/>
              <a:gd name="adj3" fmla="val 11805"/>
              <a:gd name="adj4" fmla="val 230629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914400" y="4572000"/>
            <a:ext cx="1279440" cy="685800"/>
          </a:xfrm>
          <a:prstGeom prst="borderCallout1">
            <a:avLst>
              <a:gd name="adj1" fmla="val 18750"/>
              <a:gd name="adj2" fmla="val -8333"/>
              <a:gd name="adj3" fmla="val -6481"/>
              <a:gd name="adj4" fmla="val 12853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7375680" y="1523880"/>
            <a:ext cx="1508040" cy="685800"/>
          </a:xfrm>
          <a:prstGeom prst="borderCallout1">
            <a:avLst>
              <a:gd name="adj1" fmla="val 18750"/>
              <a:gd name="adj2" fmla="val -8333"/>
              <a:gd name="adj3" fmla="val 242592"/>
              <a:gd name="adj4" fmla="val -12400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9"/>
          <p:cNvGraphicFramePr/>
          <p:nvPr/>
        </p:nvGraphicFramePr>
        <p:xfrm>
          <a:off x="3152880" y="2362320"/>
          <a:ext cx="49244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2362320"/>
                    <a:ext cx="4924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witching Worksheet View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48120" y="1752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ge Break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1219320" y="4343400"/>
            <a:ext cx="1431720" cy="1066680"/>
          </a:xfrm>
          <a:prstGeom prst="borderCallout1">
            <a:avLst>
              <a:gd name="adj1" fmla="val 18750"/>
              <a:gd name="adj2" fmla="val -8333"/>
              <a:gd name="adj3" fmla="val 5504"/>
              <a:gd name="adj4" fmla="val 32771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outline indicates prin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7315200" y="3581280"/>
            <a:ext cx="1492200" cy="914400"/>
          </a:xfrm>
          <a:prstGeom prst="borderCallout1">
            <a:avLst>
              <a:gd name="adj1" fmla="val 18750"/>
              <a:gd name="adj2" fmla="val -8333"/>
              <a:gd name="adj3" fmla="val 262847"/>
              <a:gd name="adj4" fmla="val -15861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page break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 flipH="1" flipV="1">
            <a:off x="2743200" y="4495680"/>
            <a:ext cx="1752480" cy="1524240"/>
          </a:xfrm>
          <a:prstGeom prst="line">
            <a:avLst/>
          </a:prstGeom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oosing Print Option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see how a worksheet would look when printed using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ge Layout ta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dotted line indicates the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int are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the area to be print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nt Pre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You can print from this view by clicking the Print button on the Ribb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oosing Print Option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ge Layout tab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ge Setup grou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int orientation: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landscap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ortrai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cale to Fit grou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heet Options grou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nt dialog box lets you choose the number of copies, the printer, etc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oosing Print Option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514600" y="1752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orksheet with Portrait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2571840" y="2362320"/>
            <a:ext cx="5091120" cy="3816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7"/>
          <p:cNvSpPr/>
          <p:nvPr/>
        </p:nvSpPr>
        <p:spPr>
          <a:xfrm>
            <a:off x="1066680" y="2743200"/>
            <a:ext cx="1279800" cy="685800"/>
          </a:xfrm>
          <a:prstGeom prst="borderCallout1">
            <a:avLst>
              <a:gd name="adj1" fmla="val 18750"/>
              <a:gd name="adj2" fmla="val -8333"/>
              <a:gd name="adj3" fmla="val -19675"/>
              <a:gd name="adj4" fmla="val 18250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Layout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066680" y="4191120"/>
            <a:ext cx="1355760" cy="990360"/>
          </a:xfrm>
          <a:prstGeom prst="borderCallout1">
            <a:avLst>
              <a:gd name="adj1" fmla="val 18750"/>
              <a:gd name="adj2" fmla="val -8333"/>
              <a:gd name="adj3" fmla="val -16027"/>
              <a:gd name="adj4" fmla="val 154333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d line surrounds prin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bjective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dit cell e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er and edit a simple formul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witch worksheet view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oose print op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1"/>
          <a:srcRect l="0" t="0" r="23794" b="-6660"/>
          <a:stretch/>
        </p:blipFill>
        <p:spPr>
          <a:xfrm>
            <a:off x="2819520" y="2438280"/>
            <a:ext cx="5638680" cy="3124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oosing Print Option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819520" y="1752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orksheet in Print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1143000" y="3048120"/>
            <a:ext cx="1279440" cy="685800"/>
          </a:xfrm>
          <a:prstGeom prst="borderCallout1">
            <a:avLst>
              <a:gd name="adj1" fmla="val 18750"/>
              <a:gd name="adj2" fmla="val -8333"/>
              <a:gd name="adj3" fmla="val -3935"/>
              <a:gd name="adj4" fmla="val 13449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066680" y="4191120"/>
            <a:ext cx="1355760" cy="685800"/>
          </a:xfrm>
          <a:prstGeom prst="borderCallout1">
            <a:avLst>
              <a:gd name="adj1" fmla="val 18750"/>
              <a:gd name="adj2" fmla="val -8333"/>
              <a:gd name="adj3" fmla="val -140740"/>
              <a:gd name="adj4" fmla="val 18337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om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6934320" y="2819520"/>
            <a:ext cx="1600200" cy="914400"/>
          </a:xfrm>
          <a:prstGeom prst="borderCallout1">
            <a:avLst>
              <a:gd name="adj1" fmla="val 18750"/>
              <a:gd name="adj2" fmla="val -8333"/>
              <a:gd name="adj3" fmla="val 19097"/>
              <a:gd name="adj4" fmla="val -11012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Print Preview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nderstand spreadsheet softwa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ur the Excel 2007 windo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nderstand formula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er labels and values and use AutoSu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ummary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dit cell e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er and edit a simple formul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witch worksheet view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oose print op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Spreadsheet Softwar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9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crosoft Excel is an electronic spreadsheet progra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electronic spreadshee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program allows you to perform numeric calcul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spreadsheet is called a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workshee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dividual worksheets are stored in a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workbook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which is the Excel fi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Spreadsheet Software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vantages of using Exc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ter data quickly and accuratel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calculate data easil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form what-if analys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nge the appearance of inform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e char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hare inform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uild on previous wor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Spreadsheet Software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209680" y="1676520"/>
            <a:ext cx="48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ample worksheet with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2286000" y="2171880"/>
            <a:ext cx="569736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1360" y="609480"/>
            <a:ext cx="69343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ouring the Excel 2007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indow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3994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Name box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displays the active cell addr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rmula ba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llows you to enter or edit data in the workshe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intersection of a row and a column is called 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e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ouring the Excel 2007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indow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3994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ach cell has its own unique location called 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ell addr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 cell address is identified by its coordinates (A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cell in which you are working is called 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ctive ce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heet tab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let you switch from sheet to sheet in a workboo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ouring the Excel 2007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indow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3994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tatus ba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rovides a brief description of the active command or task in progr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ode indicato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rovides additional information about certain task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selection of two or more cells such as B5:B14 is called 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0:50:52Z</dcterms:created>
  <dc:creator/>
  <dc:description/>
  <dc:language>en-US</dc:language>
  <cp:lastModifiedBy>NHBOE</cp:lastModifiedBy>
  <dcterms:modified xsi:type="dcterms:W3CDTF">2012-02-08T14:41:52Z</dcterms:modified>
  <cp:revision>45</cp:revision>
  <dc:subject/>
  <dc:title>Microsoft Office 2007- Illustrated Introductory, Windows XP Edition</dc:title>
</cp:coreProperties>
</file>